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BDE-57C8-4467-9D4B-270831BE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CE2-0C5E-4B60-AC0B-B3B1986F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609D3-6451-409F-ADDE-47EB22E2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26DE6-AC63-4476-A319-2DE6D929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A2960-9501-426A-A42B-5B6D2230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1330B-7A4A-4C7D-88FA-A27043E0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9F2A7-9FE3-4430-961E-FC1DF5B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D1409-A34E-42A8-9DC2-03519017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70FE4-2235-4018-9717-B1738497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76B7B-C9AC-477B-9648-7EEA6383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B7F4E-20B7-4D72-9D48-FDE074D6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5E0B6-1031-4953-B25C-D2033BA6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7D9-795F-4D0A-B48F-EFFC4D68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F881A-53A1-495E-9EC0-1DF40C7E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5E7A4-1CCF-49B6-812E-B80F01C2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3E114-905C-4D29-9055-635BDD26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62D62-E24A-44EF-BA04-8EA2D383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639B9-6F14-4B95-9854-345E3A2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28378-527C-410A-9618-CB796701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987BF-E5D2-4DCD-BFD1-CE2833B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DED95-1DAC-490E-8D75-0D58DCA2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DC57C-02A9-4634-889B-D5FF69AD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DAF3D-CABF-492A-8F47-1CE9536D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679-4DD7-45DC-8346-F3AFD567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4C185-5CAB-45AC-89A8-E5BD9135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70F83-B068-4D00-8FE8-9322E967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9A320-216F-4C44-A8FF-1CCBEEBA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CA8D5-6E9D-4AD6-B184-DC55042B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F70DD-CCA7-46AB-8294-9C9214AA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A23B3-2FE1-4D97-9BA6-DDA2A1D2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150F6-CDDF-420B-A711-68217FD2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13308-5170-4516-A888-7801B70A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45EEB-98A5-4855-ADAC-ADFB2867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9C95F-A8CB-4082-9E64-595EF83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A49E-BF07-4D7B-89EE-2C45C423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E4A37-252A-4B52-8E9D-EEFEC0E4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7F707-8379-4EDB-BCA6-AD80F930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90A68-76E6-4891-B64F-D73B9DA4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326BE-9C4C-4BDB-ADD3-1B175740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CF6A4-D7BB-4BAD-99FB-9343F683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15F96-E2F5-480A-84FC-C6D9B6E9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88664-390F-4F0F-B2B4-7004EF7A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5CF00-6557-40D5-8E36-F8BB7271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73235-5E3B-44AD-94C7-81A7A5A2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F1527-8F0D-4670-9A19-B85F3BA4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99F9-F044-4306-BADB-0B871559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64CC1-9EC5-4056-8B8B-39A7216F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BE616-B1D2-4135-910C-8D863EC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E868A-54B7-4E94-AF91-32200121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6528F-9281-4E93-955C-1E18ADCE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5C14A-1B97-4F85-8421-84949537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5CD5F-D6AE-4D5D-A479-9500A3C3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A2555-9670-4591-8661-FE323B43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6ACBD-052D-471C-AC53-AAF136B5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4262A-C66D-4F7C-9E72-3B26E065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248CD-87E4-4A16-AC32-774CBB25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A1B6-5F07-4F98-812D-AC41F170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48836-9AF3-4531-8A89-89E776EE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6C873-921D-4483-A639-9A6F02D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04A63-3D2A-4D80-A761-9377D2BA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E9884-7659-4557-AF22-7DF9C74B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5E504-78C9-4168-9F9D-C1D5D553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C340E-6F41-4839-AAE7-D44F4ECC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D686D-A865-4D54-B324-BA38D8CA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DDB0E-BC93-4307-819B-02C744E9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96361-1896-43F8-B534-9EE47C26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0FB56-5F0A-4B10-B429-8D11F9EB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C809-6923-4850-9B92-D2263150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7CE05-3E7E-4BF1-8586-56B1558A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6F5D9-0EE2-4A8A-BE22-E776C86E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39AF1-A778-44B1-BD6E-97A254E2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B7475-C4F4-45B2-BD51-B9A30501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B08AD-CF94-4CB3-9892-089F1B3A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BC9B5-C47F-4DB1-84E1-B25A00A4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4A9C3-AA1E-4A18-A3C0-0B7F4E36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ED0BC-C2C5-429C-B92C-EAF88515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DCDFF-BDFA-4457-B9CD-8994BE9F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B640E-46AD-41AC-87FE-B35917A4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FFED-346E-4499-972E-1CB057ED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E8208-2A81-450A-8358-259B5B91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B30D2-9F73-432D-8BCB-A3788DCD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FA2500-965D-4C89-A859-97B2EC24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DD8E1-1715-4D3B-BDD2-057D7D3B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B467D-A538-41BB-A3F1-5CF30E6F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61E6B-321F-4F30-BE24-6968F51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89080-C1BB-4C73-8B79-F50E618D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043BF-7293-493E-8A19-66FEC23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1446D-6B9F-4811-87EA-EBC4B76C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3B492-68FB-4653-A2E5-1541350B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5819-4906-40AC-A8C9-89CA2954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9CA9A-DA8E-4DCC-9EB9-455312A8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21CB1-9341-4411-BD24-FBE5030B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CCCB7-E1B3-49E7-8D91-C99919DA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7846D-B89A-4A4C-BCA0-9B48BFDE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70E05-0563-4B47-9F00-37768BAD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00526-3CE4-43E1-B27A-192F970E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5CF97-0224-4062-A205-4BF514E2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63C43-5A55-438D-A155-3E83054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2D73F-6737-409D-8CA1-FAC866B9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B0457-BF8E-4664-9327-3B1A5D21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79C2-7A8C-44C0-97A7-6868DC1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390FF-147B-49D8-8815-9E9C1680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3A7D11-E626-41BE-B7E1-8D6D3EB9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CFD5C-E63B-4B68-B0DE-4FEE509C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4BA60-9C98-4B26-8AF0-605F6EBA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ACDB1-858A-42E6-9A50-F4605AC8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5DBD3-982D-4B62-A2B2-8CB0AF7F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278A6-BE66-4698-8449-3F84D771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91E1C-7C65-410A-9CD6-2C8D3F28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8BB01-41CF-4B36-85ED-1C5A91F8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73C11-7570-489B-BA7D-228C4525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2D2-0D79-413B-97F3-04365872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B39F-F66C-40FF-9970-5210B77F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9FAD82-E30B-4109-BE43-61D6F5F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353D1-1F8F-4141-8FB0-670DF5A9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41AE7-C309-4F54-B667-722F2ABF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70D84-CE0B-47DA-9DBB-0EE73CD2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B43C6-4CAF-4B66-B62E-C64A45BA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836285-4341-4F71-908C-C23B5A97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27874-A7A3-42D4-88AD-6DA498E9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5931A3-8FD9-4144-91FD-252D5E95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B8490-ED9C-435F-8886-0BEA99D8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8F877-D165-4DD4-A49F-E40C22D2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08E7-925A-4586-953C-9C48A63A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8552C-FCDD-44F9-AD95-FA5E4C27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06CEA-0829-4950-925D-5A6A3B91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7F2E2-349E-4CAB-8A4A-5A7D4FD8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F9496-FADE-4219-A63C-C82F2D02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C41410-4F5F-4899-8E67-23199D73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DA5086-5EE6-43C5-9032-E01990A3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4A5CA-8D0D-47ED-A04E-26F30E2A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8822B9-CB68-4E6C-9847-A92750EF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F59017-CC7A-43C6-AC9E-01F82ABD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61C2C-0571-4869-8A74-E988970C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CB77-43FC-4E63-8136-63FDF6B1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086E7-A3C2-4736-927B-367DC52E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079C1A-AE0F-4546-9866-D505A56A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208346-8361-4CE3-9AB5-97BBE1B4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FCA1F-456F-4536-88B4-E3069F3D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4BB7E9-6F83-4080-AF20-5643A372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E84CB-D203-45E6-908B-1419EFB0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7AD6F1-FEE4-486A-A040-25B20B59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82806-D6FB-4B4D-BE2E-ED7E8DC3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522FCA-85E7-46CC-B780-248BDEE9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F26613-4C9B-4C11-BFC8-3C8D2AC3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CFA4-17E8-471C-81AB-F181C13E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D4DB5B-61E8-4403-A1A0-449136B0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CB6A65-B1E1-480F-A71F-8D4FEA8E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36099B-4428-4A13-9C48-A8F7CA24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A6C1E4-B3EC-42EB-961D-34F16FCA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61CB89-1FFB-409C-A9FF-ED760D1D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863973-9DFB-43F9-A64D-0FC71029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7206E-E92F-4A52-8243-693E6987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0650F-0827-42A0-8E7D-578F7A5D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B9CF5-819C-42CC-8BEA-C886FF5B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A79733-3459-4CC4-84D6-1A3C2A92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66B5-8B28-4646-8756-340D3095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71F8D-2D27-4618-98A1-CD4217C8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414FA-E1A5-43CD-B151-E8CE7625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AED971-C1F6-4AF8-A25C-11ED8FF4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57860D-2318-4F32-A155-C4940F33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3C218-599D-46C8-987F-31A51372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3B592E-A6C5-42B3-9D4C-684329E2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8ADAA9-47A9-4B5A-A59C-AC1118E4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3273C-D81D-42DC-934A-7B4DD699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CB20BE-3D27-4C28-A729-56AC5741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607D1D-81DB-4EF2-9DC8-5C87C18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EFE9A-4646-4D61-8444-0B63BA81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F7CBCE-3B33-4456-85D4-8F15DD31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FBF4C8-6B48-42C6-989F-571AD5A8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4BB724-1B5C-474D-8446-57A6A258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21373F-37C2-401C-B466-6B262E6F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F0554C-A5DF-455A-9E83-0FDDF980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5A77F4-5BAA-4D53-82EC-78E8A97E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FD180C-A43E-41CA-962C-A0A4FC02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3A6797-71D8-4DAE-B789-60593C38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4533A6-20D2-428F-A2E7-4C03D2AB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53EE76-447A-42C1-891A-56B4113B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FE1E-B3BA-4F6F-B886-EDBEA54D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216F47-6171-472B-963F-29234F33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78A453-B45A-452A-80AC-74BB81C2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871F7C-B4EA-484F-B84B-49CD71F6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EDEEC3-7D32-4385-8E4B-9E73878C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53F716-683B-4FE4-9318-0043FC4D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4B1B6A-E64F-45F5-9E6A-AE4876DA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B78EFB-815B-4E11-B617-E5080046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4FF35-CFFD-41E5-8E4D-7FABC9FF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C26EA0-4418-4AE0-9381-23C14EB0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C91B26-5677-4CE0-9546-73CA83D6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3A95-DB44-4C89-A299-95B94F1C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FF1098-DDCD-444B-9B66-F25D2F36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880672-7506-4F92-A42E-24DB7D7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342FB6-5302-42FE-AD45-37F08E65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766D5C-F3CF-4C07-968A-99FEE7E8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0D7811-14DC-4A1D-9179-96E9FFA1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629511-F0EC-41FB-B8CA-2B4713FE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458068-E7DE-4E5B-8AF9-3EF95ECA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3D30A-8395-4320-B268-FB509769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9A28-EE12-4B8C-BB4E-2A6AF75E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6E6-C5A0-4ECC-8920-5E8AE470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B5B4-B1E4-4C6B-BBE8-11624D1E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0287-A182-49F7-A5E3-C1AE0ED3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ECE8-75FD-4BB0-911A-337C3F3A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4DCA-7DEE-448B-9B17-55999EE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5C26-DE6B-4419-8FE0-4C1E35B6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D8FC-2D3E-4D16-AE43-BF3F40F6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B077-8444-4884-98BF-D730BA1D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F2564-6D05-4DC7-BC37-DA9F7AD2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0A3BA-DF5D-4984-AF9B-654732FE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81E0-7ED1-4370-A9E4-1049B816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71C-DCD4-4AE6-9E1E-2E1A23BB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FBCD-900E-42CD-9369-5C113859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81902-E347-4AD9-9C26-0BE49443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B7093-8526-4B51-803F-A4723808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EA1A1-996B-42F5-BD9F-C4BA7A78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00381-2EC6-44E5-996E-E400CF20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AD61-DAA6-45C1-8341-5BC3047F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E374-B362-46FE-9D78-43C45337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B72D0-E9DD-4382-997F-F2E0C98A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809F-A456-453F-9306-AC714308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E263-F624-46FF-AC1D-F909EE0E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14D-EE95-40E8-ADD0-900B8F2A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C93F-F6AD-4BA9-A7C5-00038C2A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4C146-9636-42B1-B86D-E2A70D0A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A19F0-CD32-4F1F-B7C8-8557E053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288F9-2AE0-4310-8855-2DFB2DBF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5FB53-D5BA-4600-B6C3-20D4D746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2D85-F637-40B8-96C7-013AA5FB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CFC5D-ED0C-429C-A287-738EB65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03E60-D0E5-4240-AE81-66BB3CA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692E9-19A6-4907-A13E-7D8E626D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77D5F-9DDE-4539-A157-5C507BCE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B82-7489-4D84-AA0B-BF9BCCC6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F4BF6-A43C-4CAB-8046-84FB69AE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78ACF-06D2-4E36-B4FE-CBDCFF9E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C4E2D-7890-4597-B78B-8890ECEA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D18A5-44FD-4BEC-9156-A8F7639B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717BC-1FF5-4322-9B9A-1D2D9058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B3F29-3A6B-43CF-8389-836F98CE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E2DD-8FC4-4F2E-AEB9-E8E95EB5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CF9DA-006E-464D-B642-3026A0D0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D8E10-01F4-483E-8E65-71E58A4A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0E80E-2B95-44F4-9CD6-5B2FD02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FE9-395E-4608-8A8A-A4494A27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5192-179C-4CFF-93E7-076E061E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082BC-FCC3-4A72-A993-D8A6611B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1E2C0-9756-4816-B215-F7941CE9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57BA8-7844-4671-A158-9C2A99C6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B81D-4F4D-4C6D-999B-A5EB423F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5E889-222A-4B7F-B1CE-4E8C6163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B7A3B-D983-4D3E-A1A5-9C8C06ED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040C6-5F6E-474B-838C-25E5A68C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CBD51-59FB-4BEC-A795-C8B46D37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AA7D4-77C0-45CA-907C-20D7417A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569-AE51-4C07-AD58-09AE9049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E7C08-6F43-4203-9D4F-7B4414F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DC29B-64AC-4DAC-8F45-D3BA7CCE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B741E-B534-42C2-8F22-BC40FB92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DCD5C-B414-46C0-B4A3-5FF720CB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1D7D6-47AB-43DF-937F-A865A5A7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C8F50-5117-4D1B-99EF-87C40FC4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66D2C-4021-4877-A57B-681BF051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1B426-33BB-4EF4-AFAA-1A9C0D2F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CD634-9053-4DE6-BB42-4FFEF92B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A36A5-6D6F-48E2-9168-4CA6B34F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78F-AC3A-4325-87A3-A0BA5ABA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EFD57-2D6F-4DDA-8036-6C4E0A69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06FEF-CE32-4205-9295-FDF6C1FC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26445-DC24-4C61-A0C4-E7E16FA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AD373-BCED-4153-A1A7-BB6CD5F6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4FEA6-7D39-42E0-B7DC-BBB70F6A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05279-27B2-4073-B5B3-6CF3B313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DE6C8-A080-4AE2-97A6-A9B55B30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6E4E7-AC08-4647-BF06-4F77B4B3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1331A-EA84-44C2-A832-B559A622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4C59B-7533-4264-B977-44FFE963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B750-67BE-41E8-89DB-0342CD79A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11E6-B0A5-4339-ABCC-9CD9B58B8D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70BD-5D49-40C1-8FA7-0B272FEBDA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B970-1DF4-4823-B049-4B6A94D4FB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E649-1FF4-4AE1-B639-43E0CD634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1B8B-5BE7-44AD-9739-00D4553EE1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61BC-D2F1-450F-9F26-A067695207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51A9-C5B8-4E21-B2DF-30C9515ED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AE31-9DF5-411F-9FAE-72C8B70E5C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3AD1-2623-4CE3-84EF-5605BF4E15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631C-9BF8-4319-92E0-B858C72CA1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5CA6-FB39-42C3-AB32-152AD2E2C0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E0FC-FF19-4337-9208-AA2EE56C6B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4CE4-6488-4512-8F90-7678B8DCA9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73A9-F485-434C-B41B-91CE95412A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105C-5E3C-46D2-A13F-E1D50DF43E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29CE-4AA2-4401-B9F9-F94DE4E43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64E6-E882-415A-A348-FEE2BABDA2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D50A-C777-4D06-9E57-5B2BBBD0D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FE0-8005-42F8-A1E3-9AEA43C063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C19A-54F0-4DFB-9E53-F54778C3E2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0DC2-C159-4958-AAD8-C29A53B15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B48B-49D4-49B9-B46A-03686AEBC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3FD7-E745-42B4-A91E-349E25E262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1933-8D0C-45E4-A499-9D3F57DECD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0A7A-BFB8-4B41-8044-499E27D3BE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A8CB-68C7-4F08-9436-3A0EDDD1BA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1C20-C867-4197-81DD-011034DC91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3DA4-2ECF-4F03-A197-3827603A6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B53D-428E-49D3-A5F0-68F73FCD3E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689A-871E-4518-B24B-507794F983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54E1-53B1-4E89-8C28-1F323A432A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D9DE-AFE5-4CAC-80D5-846E44774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9237-C1E7-414D-A76B-68BACEB0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2472-B43D-4D0E-96F6-8D0EA9B1B7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F135-480F-4D37-B49C-EFEE256837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D2B7-DC4E-4E5F-B7DC-629A97D868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1CB0-8648-4059-B6B9-DBC8F33146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6764-1BE5-44C8-A219-CED0D4780C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0713-A551-4760-9D52-ACCEFA5AB9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6D70-D76F-422D-B8D8-5FF233973B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7F17-0E2B-47FF-A74C-03C9739342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2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857760" cy="9334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3" descr=""/>
          <p:cNvPicPr/>
          <p:nvPr/>
        </p:nvPicPr>
        <p:blipFill>
          <a:blip r:embed="rId2"/>
          <a:stretch/>
        </p:blipFill>
        <p:spPr>
          <a:xfrm>
            <a:off x="912960" y="3081240"/>
            <a:ext cx="76197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图片 1" descr=""/>
          <p:cNvPicPr/>
          <p:nvPr/>
        </p:nvPicPr>
        <p:blipFill>
          <a:blip r:embed="rId1"/>
          <a:stretch/>
        </p:blipFill>
        <p:spPr>
          <a:xfrm>
            <a:off x="766800" y="1168560"/>
            <a:ext cx="7713720" cy="1428480"/>
          </a:xfrm>
          <a:prstGeom prst="rect">
            <a:avLst/>
          </a:prstGeom>
          <a:ln w="0">
            <a:noFill/>
          </a:ln>
        </p:spPr>
      </p:pic>
      <p:pic>
        <p:nvPicPr>
          <p:cNvPr id="1156" name="图片 2" descr=""/>
          <p:cNvPicPr/>
          <p:nvPr/>
        </p:nvPicPr>
        <p:blipFill>
          <a:blip r:embed="rId2"/>
          <a:stretch/>
        </p:blipFill>
        <p:spPr>
          <a:xfrm>
            <a:off x="419040" y="2720880"/>
            <a:ext cx="8010720" cy="3419640"/>
          </a:xfrm>
          <a:prstGeom prst="rect">
            <a:avLst/>
          </a:prstGeom>
          <a:ln w="0">
            <a:noFill/>
          </a:ln>
        </p:spPr>
      </p:pic>
      <p:pic>
        <p:nvPicPr>
          <p:cNvPr id="1157" name="图片 3" descr=""/>
          <p:cNvPicPr/>
          <p:nvPr/>
        </p:nvPicPr>
        <p:blipFill>
          <a:blip r:embed="rId3"/>
          <a:stretch/>
        </p:blipFill>
        <p:spPr>
          <a:xfrm>
            <a:off x="2268360" y="1596960"/>
            <a:ext cx="1079640" cy="428760"/>
          </a:xfrm>
          <a:prstGeom prst="rect">
            <a:avLst/>
          </a:prstGeom>
          <a:ln w="0">
            <a:noFill/>
          </a:ln>
        </p:spPr>
      </p:pic>
      <p:pic>
        <p:nvPicPr>
          <p:cNvPr id="1158" name="图片 4" descr=""/>
          <p:cNvPicPr/>
          <p:nvPr/>
        </p:nvPicPr>
        <p:blipFill>
          <a:blip r:embed="rId4"/>
          <a:stretch/>
        </p:blipFill>
        <p:spPr>
          <a:xfrm>
            <a:off x="3851280" y="3645000"/>
            <a:ext cx="4681440" cy="428400"/>
          </a:xfrm>
          <a:prstGeom prst="rect">
            <a:avLst/>
          </a:prstGeom>
          <a:ln w="0">
            <a:noFill/>
          </a:ln>
        </p:spPr>
      </p:pic>
      <p:pic>
        <p:nvPicPr>
          <p:cNvPr id="1159" name="图片 5" descr=""/>
          <p:cNvPicPr/>
          <p:nvPr/>
        </p:nvPicPr>
        <p:blipFill>
          <a:blip r:embed="rId5"/>
          <a:stretch/>
        </p:blipFill>
        <p:spPr>
          <a:xfrm>
            <a:off x="1332000" y="4152960"/>
            <a:ext cx="3744720" cy="428400"/>
          </a:xfrm>
          <a:prstGeom prst="rect">
            <a:avLst/>
          </a:prstGeom>
          <a:ln w="0">
            <a:noFill/>
          </a:ln>
        </p:spPr>
      </p:pic>
      <p:pic>
        <p:nvPicPr>
          <p:cNvPr id="1160" name="图片 6" descr=""/>
          <p:cNvPicPr/>
          <p:nvPr/>
        </p:nvPicPr>
        <p:blipFill>
          <a:blip r:embed="rId6"/>
          <a:stretch/>
        </p:blipFill>
        <p:spPr>
          <a:xfrm>
            <a:off x="1258920" y="5632560"/>
            <a:ext cx="54738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图片 1" descr=""/>
          <p:cNvPicPr/>
          <p:nvPr/>
        </p:nvPicPr>
        <p:blipFill>
          <a:blip r:embed="rId1"/>
          <a:stretch/>
        </p:blipFill>
        <p:spPr>
          <a:xfrm>
            <a:off x="378000" y="771480"/>
            <a:ext cx="8389800" cy="6010200"/>
          </a:xfrm>
          <a:prstGeom prst="rect">
            <a:avLst/>
          </a:prstGeom>
          <a:ln w="0">
            <a:noFill/>
          </a:ln>
        </p:spPr>
      </p:pic>
      <p:pic>
        <p:nvPicPr>
          <p:cNvPr id="1162" name="图片 2" descr=""/>
          <p:cNvPicPr/>
          <p:nvPr/>
        </p:nvPicPr>
        <p:blipFill>
          <a:blip r:embed="rId2"/>
          <a:stretch/>
        </p:blipFill>
        <p:spPr>
          <a:xfrm>
            <a:off x="2771640" y="2554200"/>
            <a:ext cx="5761080" cy="428760"/>
          </a:xfrm>
          <a:prstGeom prst="rect">
            <a:avLst/>
          </a:prstGeom>
          <a:ln w="0">
            <a:noFill/>
          </a:ln>
        </p:spPr>
      </p:pic>
      <p:pic>
        <p:nvPicPr>
          <p:cNvPr id="1163" name="图片 3" descr=""/>
          <p:cNvPicPr/>
          <p:nvPr/>
        </p:nvPicPr>
        <p:blipFill>
          <a:blip r:embed="rId3"/>
          <a:stretch/>
        </p:blipFill>
        <p:spPr>
          <a:xfrm>
            <a:off x="3780000" y="3314880"/>
            <a:ext cx="1728720" cy="428400"/>
          </a:xfrm>
          <a:prstGeom prst="rect">
            <a:avLst/>
          </a:prstGeom>
          <a:ln w="0">
            <a:noFill/>
          </a:ln>
        </p:spPr>
      </p:pic>
      <p:pic>
        <p:nvPicPr>
          <p:cNvPr id="1164" name="图片 4" descr=""/>
          <p:cNvPicPr/>
          <p:nvPr/>
        </p:nvPicPr>
        <p:blipFill>
          <a:blip r:embed="rId4"/>
          <a:stretch/>
        </p:blipFill>
        <p:spPr>
          <a:xfrm>
            <a:off x="3932280" y="3811680"/>
            <a:ext cx="3232080" cy="428400"/>
          </a:xfrm>
          <a:prstGeom prst="rect">
            <a:avLst/>
          </a:prstGeom>
          <a:ln w="0">
            <a:noFill/>
          </a:ln>
        </p:spPr>
      </p:pic>
      <p:pic>
        <p:nvPicPr>
          <p:cNvPr id="1165" name="图片 5" descr=""/>
          <p:cNvPicPr/>
          <p:nvPr/>
        </p:nvPicPr>
        <p:blipFill>
          <a:blip r:embed="rId5"/>
          <a:stretch/>
        </p:blipFill>
        <p:spPr>
          <a:xfrm>
            <a:off x="3932280" y="4316400"/>
            <a:ext cx="17287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1" descr=""/>
          <p:cNvPicPr/>
          <p:nvPr/>
        </p:nvPicPr>
        <p:blipFill>
          <a:blip r:embed="rId1"/>
          <a:stretch/>
        </p:blipFill>
        <p:spPr>
          <a:xfrm>
            <a:off x="530280" y="736560"/>
            <a:ext cx="8280360" cy="6048360"/>
          </a:xfrm>
          <a:prstGeom prst="rect">
            <a:avLst/>
          </a:prstGeom>
          <a:ln w="0">
            <a:noFill/>
          </a:ln>
        </p:spPr>
      </p:pic>
      <p:pic>
        <p:nvPicPr>
          <p:cNvPr id="1167" name="图片 2" descr=""/>
          <p:cNvPicPr/>
          <p:nvPr/>
        </p:nvPicPr>
        <p:blipFill>
          <a:blip r:embed="rId2"/>
          <a:stretch/>
        </p:blipFill>
        <p:spPr>
          <a:xfrm>
            <a:off x="6588000" y="3036960"/>
            <a:ext cx="1729080" cy="428400"/>
          </a:xfrm>
          <a:prstGeom prst="rect">
            <a:avLst/>
          </a:prstGeom>
          <a:ln w="0">
            <a:noFill/>
          </a:ln>
        </p:spPr>
      </p:pic>
      <p:pic>
        <p:nvPicPr>
          <p:cNvPr id="1168" name="图片 3" descr=""/>
          <p:cNvPicPr/>
          <p:nvPr/>
        </p:nvPicPr>
        <p:blipFill>
          <a:blip r:embed="rId3"/>
          <a:stretch/>
        </p:blipFill>
        <p:spPr>
          <a:xfrm>
            <a:off x="6588000" y="4729320"/>
            <a:ext cx="1729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图片 1" descr=""/>
          <p:cNvPicPr/>
          <p:nvPr/>
        </p:nvPicPr>
        <p:blipFill>
          <a:blip r:embed="rId1"/>
          <a:stretch/>
        </p:blipFill>
        <p:spPr>
          <a:xfrm>
            <a:off x="338040" y="811080"/>
            <a:ext cx="8466120" cy="5953320"/>
          </a:xfrm>
          <a:prstGeom prst="rect">
            <a:avLst/>
          </a:prstGeom>
          <a:ln w="0">
            <a:noFill/>
          </a:ln>
        </p:spPr>
      </p:pic>
      <p:pic>
        <p:nvPicPr>
          <p:cNvPr id="1170" name="图片 2" descr=""/>
          <p:cNvPicPr/>
          <p:nvPr/>
        </p:nvPicPr>
        <p:blipFill>
          <a:blip r:embed="rId2"/>
          <a:stretch/>
        </p:blipFill>
        <p:spPr>
          <a:xfrm>
            <a:off x="6659640" y="907920"/>
            <a:ext cx="1728720" cy="347760"/>
          </a:xfrm>
          <a:prstGeom prst="rect">
            <a:avLst/>
          </a:prstGeom>
          <a:ln w="0">
            <a:noFill/>
          </a:ln>
        </p:spPr>
      </p:pic>
      <p:pic>
        <p:nvPicPr>
          <p:cNvPr id="1171" name="图片 3" descr=""/>
          <p:cNvPicPr/>
          <p:nvPr/>
        </p:nvPicPr>
        <p:blipFill>
          <a:blip r:embed="rId3"/>
          <a:stretch/>
        </p:blipFill>
        <p:spPr>
          <a:xfrm>
            <a:off x="2411280" y="5805360"/>
            <a:ext cx="32403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图片 1" descr=""/>
          <p:cNvPicPr/>
          <p:nvPr/>
        </p:nvPicPr>
        <p:blipFill>
          <a:blip r:embed="rId1"/>
          <a:stretch/>
        </p:blipFill>
        <p:spPr>
          <a:xfrm>
            <a:off x="873000" y="723960"/>
            <a:ext cx="7745400" cy="3352680"/>
          </a:xfrm>
          <a:prstGeom prst="rect">
            <a:avLst/>
          </a:prstGeom>
          <a:ln w="0">
            <a:noFill/>
          </a:ln>
        </p:spPr>
      </p:pic>
      <p:pic>
        <p:nvPicPr>
          <p:cNvPr id="1173" name="图片 2" descr=""/>
          <p:cNvPicPr/>
          <p:nvPr/>
        </p:nvPicPr>
        <p:blipFill>
          <a:blip r:embed="rId2"/>
          <a:stretch/>
        </p:blipFill>
        <p:spPr>
          <a:xfrm>
            <a:off x="893880" y="4038480"/>
            <a:ext cx="7678800" cy="2741760"/>
          </a:xfrm>
          <a:prstGeom prst="rect">
            <a:avLst/>
          </a:prstGeom>
          <a:ln w="0">
            <a:noFill/>
          </a:ln>
        </p:spPr>
      </p:pic>
      <p:pic>
        <p:nvPicPr>
          <p:cNvPr id="1174" name="图片 3" descr=""/>
          <p:cNvPicPr/>
          <p:nvPr/>
        </p:nvPicPr>
        <p:blipFill>
          <a:blip r:embed="rId3"/>
          <a:stretch/>
        </p:blipFill>
        <p:spPr>
          <a:xfrm>
            <a:off x="3851280" y="4869000"/>
            <a:ext cx="1873080" cy="4284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4" descr=""/>
          <p:cNvPicPr/>
          <p:nvPr/>
        </p:nvPicPr>
        <p:blipFill>
          <a:blip r:embed="rId4"/>
          <a:stretch/>
        </p:blipFill>
        <p:spPr>
          <a:xfrm>
            <a:off x="3789360" y="5340240"/>
            <a:ext cx="1873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图片 1" descr=""/>
          <p:cNvPicPr/>
          <p:nvPr/>
        </p:nvPicPr>
        <p:blipFill>
          <a:blip r:embed="rId1"/>
          <a:stretch/>
        </p:blipFill>
        <p:spPr>
          <a:xfrm>
            <a:off x="542880" y="985680"/>
            <a:ext cx="8058240" cy="5343840"/>
          </a:xfrm>
          <a:prstGeom prst="rect">
            <a:avLst/>
          </a:prstGeom>
          <a:ln w="0">
            <a:noFill/>
          </a:ln>
        </p:spPr>
      </p:pic>
      <p:pic>
        <p:nvPicPr>
          <p:cNvPr id="1177" name="图片 2" descr=""/>
          <p:cNvPicPr/>
          <p:nvPr/>
        </p:nvPicPr>
        <p:blipFill>
          <a:blip r:embed="rId2"/>
          <a:stretch/>
        </p:blipFill>
        <p:spPr>
          <a:xfrm>
            <a:off x="2843280" y="1962000"/>
            <a:ext cx="792000" cy="428760"/>
          </a:xfrm>
          <a:prstGeom prst="rect">
            <a:avLst/>
          </a:prstGeom>
          <a:ln w="0">
            <a:noFill/>
          </a:ln>
        </p:spPr>
      </p:pic>
      <p:pic>
        <p:nvPicPr>
          <p:cNvPr id="1178" name="图片 3" descr=""/>
          <p:cNvPicPr/>
          <p:nvPr/>
        </p:nvPicPr>
        <p:blipFill>
          <a:blip r:embed="rId3"/>
          <a:stretch/>
        </p:blipFill>
        <p:spPr>
          <a:xfrm>
            <a:off x="7164360" y="1989000"/>
            <a:ext cx="1584360" cy="428760"/>
          </a:xfrm>
          <a:prstGeom prst="rect">
            <a:avLst/>
          </a:prstGeom>
          <a:ln w="0">
            <a:noFill/>
          </a:ln>
        </p:spPr>
      </p:pic>
      <p:pic>
        <p:nvPicPr>
          <p:cNvPr id="1179" name="图片 4" descr=""/>
          <p:cNvPicPr/>
          <p:nvPr/>
        </p:nvPicPr>
        <p:blipFill>
          <a:blip r:embed="rId4"/>
          <a:stretch/>
        </p:blipFill>
        <p:spPr>
          <a:xfrm>
            <a:off x="1187280" y="2473200"/>
            <a:ext cx="6337440" cy="42876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5" descr=""/>
          <p:cNvPicPr/>
          <p:nvPr/>
        </p:nvPicPr>
        <p:blipFill>
          <a:blip r:embed="rId5"/>
          <a:stretch/>
        </p:blipFill>
        <p:spPr>
          <a:xfrm>
            <a:off x="5435640" y="3913200"/>
            <a:ext cx="1584360" cy="428760"/>
          </a:xfrm>
          <a:prstGeom prst="rect">
            <a:avLst/>
          </a:prstGeom>
          <a:ln w="0">
            <a:noFill/>
          </a:ln>
        </p:spPr>
      </p:pic>
      <p:pic>
        <p:nvPicPr>
          <p:cNvPr id="1181" name="图片 6" descr=""/>
          <p:cNvPicPr/>
          <p:nvPr/>
        </p:nvPicPr>
        <p:blipFill>
          <a:blip r:embed="rId6"/>
          <a:stretch/>
        </p:blipFill>
        <p:spPr>
          <a:xfrm>
            <a:off x="6659640" y="5362560"/>
            <a:ext cx="2016000" cy="42876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7" descr=""/>
          <p:cNvPicPr/>
          <p:nvPr/>
        </p:nvPicPr>
        <p:blipFill>
          <a:blip r:embed="rId7"/>
          <a:stretch/>
        </p:blipFill>
        <p:spPr>
          <a:xfrm>
            <a:off x="477720" y="5837400"/>
            <a:ext cx="15843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图片 1" descr=""/>
          <p:cNvPicPr/>
          <p:nvPr/>
        </p:nvPicPr>
        <p:blipFill>
          <a:blip r:embed="rId1"/>
          <a:stretch/>
        </p:blipFill>
        <p:spPr>
          <a:xfrm>
            <a:off x="387360" y="800280"/>
            <a:ext cx="8370720" cy="593244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" descr=""/>
          <p:cNvPicPr/>
          <p:nvPr/>
        </p:nvPicPr>
        <p:blipFill>
          <a:blip r:embed="rId2"/>
          <a:stretch/>
        </p:blipFill>
        <p:spPr>
          <a:xfrm>
            <a:off x="7380360" y="3789360"/>
            <a:ext cx="1584360" cy="428760"/>
          </a:xfrm>
          <a:prstGeom prst="rect">
            <a:avLst/>
          </a:prstGeom>
          <a:ln w="0">
            <a:noFill/>
          </a:ln>
        </p:spPr>
      </p:pic>
      <p:pic>
        <p:nvPicPr>
          <p:cNvPr id="1185" name="图片 3" descr=""/>
          <p:cNvPicPr/>
          <p:nvPr/>
        </p:nvPicPr>
        <p:blipFill>
          <a:blip r:embed="rId3"/>
          <a:stretch/>
        </p:blipFill>
        <p:spPr>
          <a:xfrm>
            <a:off x="755640" y="4313160"/>
            <a:ext cx="4103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图片 1" descr=""/>
          <p:cNvPicPr/>
          <p:nvPr/>
        </p:nvPicPr>
        <p:blipFill>
          <a:blip r:embed="rId1"/>
          <a:stretch/>
        </p:blipFill>
        <p:spPr>
          <a:xfrm>
            <a:off x="930240" y="755640"/>
            <a:ext cx="7589880" cy="6070680"/>
          </a:xfrm>
          <a:prstGeom prst="rect">
            <a:avLst/>
          </a:prstGeom>
          <a:ln w="0">
            <a:noFill/>
          </a:ln>
        </p:spPr>
      </p:pic>
      <p:pic>
        <p:nvPicPr>
          <p:cNvPr id="1187" name="图片 2" descr=""/>
          <p:cNvPicPr/>
          <p:nvPr/>
        </p:nvPicPr>
        <p:blipFill>
          <a:blip r:embed="rId2"/>
          <a:stretch/>
        </p:blipFill>
        <p:spPr>
          <a:xfrm>
            <a:off x="7559640" y="2133720"/>
            <a:ext cx="612720" cy="428400"/>
          </a:xfrm>
          <a:prstGeom prst="rect">
            <a:avLst/>
          </a:prstGeom>
          <a:ln w="0">
            <a:noFill/>
          </a:ln>
        </p:spPr>
      </p:pic>
      <p:pic>
        <p:nvPicPr>
          <p:cNvPr id="1188" name="图片 3" descr=""/>
          <p:cNvPicPr/>
          <p:nvPr/>
        </p:nvPicPr>
        <p:blipFill>
          <a:blip r:embed="rId3"/>
          <a:stretch/>
        </p:blipFill>
        <p:spPr>
          <a:xfrm>
            <a:off x="4716360" y="3962520"/>
            <a:ext cx="1584360" cy="428400"/>
          </a:xfrm>
          <a:prstGeom prst="rect">
            <a:avLst/>
          </a:prstGeom>
          <a:ln w="0">
            <a:noFill/>
          </a:ln>
        </p:spPr>
      </p:pic>
      <p:pic>
        <p:nvPicPr>
          <p:cNvPr id="1189" name="图片 4" descr=""/>
          <p:cNvPicPr/>
          <p:nvPr/>
        </p:nvPicPr>
        <p:blipFill>
          <a:blip r:embed="rId4"/>
          <a:stretch/>
        </p:blipFill>
        <p:spPr>
          <a:xfrm>
            <a:off x="4500720" y="4430880"/>
            <a:ext cx="1584000" cy="428400"/>
          </a:xfrm>
          <a:prstGeom prst="rect">
            <a:avLst/>
          </a:prstGeom>
          <a:ln w="0">
            <a:noFill/>
          </a:ln>
        </p:spPr>
      </p:pic>
      <p:pic>
        <p:nvPicPr>
          <p:cNvPr id="1190" name="图片 5" descr=""/>
          <p:cNvPicPr/>
          <p:nvPr/>
        </p:nvPicPr>
        <p:blipFill>
          <a:blip r:embed="rId5"/>
          <a:stretch/>
        </p:blipFill>
        <p:spPr>
          <a:xfrm>
            <a:off x="4664160" y="5684760"/>
            <a:ext cx="1584360" cy="428760"/>
          </a:xfrm>
          <a:prstGeom prst="rect">
            <a:avLst/>
          </a:prstGeom>
          <a:ln w="0">
            <a:noFill/>
          </a:ln>
        </p:spPr>
      </p:pic>
      <p:pic>
        <p:nvPicPr>
          <p:cNvPr id="1191" name="图片 6" descr=""/>
          <p:cNvPicPr/>
          <p:nvPr/>
        </p:nvPicPr>
        <p:blipFill>
          <a:blip r:embed="rId6"/>
          <a:stretch/>
        </p:blipFill>
        <p:spPr>
          <a:xfrm>
            <a:off x="4500720" y="6168960"/>
            <a:ext cx="1584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图片 2" descr=""/>
          <p:cNvPicPr/>
          <p:nvPr/>
        </p:nvPicPr>
        <p:blipFill>
          <a:blip r:embed="rId1"/>
          <a:stretch/>
        </p:blipFill>
        <p:spPr>
          <a:xfrm>
            <a:off x="571680" y="965160"/>
            <a:ext cx="8001000" cy="3533760"/>
          </a:xfrm>
          <a:prstGeom prst="rect">
            <a:avLst/>
          </a:prstGeom>
          <a:ln w="0">
            <a:noFill/>
          </a:ln>
        </p:spPr>
      </p:pic>
      <p:pic>
        <p:nvPicPr>
          <p:cNvPr id="1193" name="图片 2" descr=""/>
          <p:cNvPicPr/>
          <p:nvPr/>
        </p:nvPicPr>
        <p:blipFill>
          <a:blip r:embed="rId2"/>
          <a:stretch/>
        </p:blipFill>
        <p:spPr>
          <a:xfrm>
            <a:off x="1258920" y="1442880"/>
            <a:ext cx="6842160" cy="428760"/>
          </a:xfrm>
          <a:prstGeom prst="rect">
            <a:avLst/>
          </a:prstGeom>
          <a:ln w="0">
            <a:noFill/>
          </a:ln>
        </p:spPr>
      </p:pic>
      <p:pic>
        <p:nvPicPr>
          <p:cNvPr id="1194" name="图片 3" descr=""/>
          <p:cNvPicPr/>
          <p:nvPr/>
        </p:nvPicPr>
        <p:blipFill>
          <a:blip r:embed="rId3"/>
          <a:stretch/>
        </p:blipFill>
        <p:spPr>
          <a:xfrm>
            <a:off x="900000" y="3386160"/>
            <a:ext cx="1727280" cy="428760"/>
          </a:xfrm>
          <a:prstGeom prst="rect">
            <a:avLst/>
          </a:prstGeom>
          <a:ln w="0">
            <a:noFill/>
          </a:ln>
        </p:spPr>
      </p:pic>
      <p:pic>
        <p:nvPicPr>
          <p:cNvPr id="1195" name="图片 4" descr=""/>
          <p:cNvPicPr/>
          <p:nvPr/>
        </p:nvPicPr>
        <p:blipFill>
          <a:blip r:embed="rId4"/>
          <a:stretch/>
        </p:blipFill>
        <p:spPr>
          <a:xfrm>
            <a:off x="6939000" y="3376440"/>
            <a:ext cx="1727280" cy="428760"/>
          </a:xfrm>
          <a:prstGeom prst="rect">
            <a:avLst/>
          </a:prstGeom>
          <a:ln w="0">
            <a:noFill/>
          </a:ln>
        </p:spPr>
      </p:pic>
      <p:pic>
        <p:nvPicPr>
          <p:cNvPr id="1196" name="图片 5" descr=""/>
          <p:cNvPicPr/>
          <p:nvPr/>
        </p:nvPicPr>
        <p:blipFill>
          <a:blip r:embed="rId5"/>
          <a:stretch/>
        </p:blipFill>
        <p:spPr>
          <a:xfrm>
            <a:off x="620640" y="3884760"/>
            <a:ext cx="4969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2" descr=""/>
          <p:cNvPicPr/>
          <p:nvPr/>
        </p:nvPicPr>
        <p:blipFill>
          <a:blip r:embed="rId1"/>
          <a:stretch/>
        </p:blipFill>
        <p:spPr>
          <a:xfrm>
            <a:off x="304920" y="1030320"/>
            <a:ext cx="8534160" cy="549432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3780000" y="4097160"/>
            <a:ext cx="1079280" cy="42876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3" descr=""/>
          <p:cNvPicPr/>
          <p:nvPr/>
        </p:nvPicPr>
        <p:blipFill>
          <a:blip r:embed="rId3"/>
          <a:stretch/>
        </p:blipFill>
        <p:spPr>
          <a:xfrm>
            <a:off x="6732720" y="4097160"/>
            <a:ext cx="1511280" cy="428760"/>
          </a:xfrm>
          <a:prstGeom prst="rect">
            <a:avLst/>
          </a:prstGeom>
          <a:ln w="0">
            <a:noFill/>
          </a:ln>
        </p:spPr>
      </p:pic>
      <p:pic>
        <p:nvPicPr>
          <p:cNvPr id="1111" name="图片 4" descr=""/>
          <p:cNvPicPr/>
          <p:nvPr/>
        </p:nvPicPr>
        <p:blipFill>
          <a:blip r:embed="rId4"/>
          <a:stretch/>
        </p:blipFill>
        <p:spPr>
          <a:xfrm>
            <a:off x="3132000" y="4656240"/>
            <a:ext cx="5112000" cy="42840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5" descr=""/>
          <p:cNvPicPr/>
          <p:nvPr/>
        </p:nvPicPr>
        <p:blipFill>
          <a:blip r:embed="rId5"/>
          <a:stretch/>
        </p:blipFill>
        <p:spPr>
          <a:xfrm>
            <a:off x="1619280" y="5340240"/>
            <a:ext cx="1512720" cy="42876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6" descr=""/>
          <p:cNvPicPr/>
          <p:nvPr/>
        </p:nvPicPr>
        <p:blipFill>
          <a:blip r:embed="rId6"/>
          <a:stretch/>
        </p:blipFill>
        <p:spPr>
          <a:xfrm>
            <a:off x="6300720" y="5330880"/>
            <a:ext cx="1511280" cy="42840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7" descr=""/>
          <p:cNvPicPr/>
          <p:nvPr/>
        </p:nvPicPr>
        <p:blipFill>
          <a:blip r:embed="rId7"/>
          <a:stretch/>
        </p:blipFill>
        <p:spPr>
          <a:xfrm>
            <a:off x="4716360" y="5897520"/>
            <a:ext cx="647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361800" y="811080"/>
            <a:ext cx="8420400" cy="5800680"/>
          </a:xfrm>
          <a:prstGeom prst="rect">
            <a:avLst/>
          </a:prstGeom>
          <a:ln w="0">
            <a:noFill/>
          </a:ln>
        </p:spPr>
      </p:pic>
      <p:pic>
        <p:nvPicPr>
          <p:cNvPr id="1116" name="图片 2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1079640" cy="428400"/>
          </a:xfrm>
          <a:prstGeom prst="rect">
            <a:avLst/>
          </a:prstGeom>
          <a:ln w="0">
            <a:noFill/>
          </a:ln>
        </p:spPr>
      </p:pic>
      <p:pic>
        <p:nvPicPr>
          <p:cNvPr id="1117" name="图片 3" descr=""/>
          <p:cNvPicPr/>
          <p:nvPr/>
        </p:nvPicPr>
        <p:blipFill>
          <a:blip r:embed="rId3"/>
          <a:stretch/>
        </p:blipFill>
        <p:spPr>
          <a:xfrm>
            <a:off x="7956720" y="1785960"/>
            <a:ext cx="647640" cy="428760"/>
          </a:xfrm>
          <a:prstGeom prst="rect">
            <a:avLst/>
          </a:prstGeom>
          <a:ln w="0">
            <a:noFill/>
          </a:ln>
        </p:spPr>
      </p:pic>
      <p:pic>
        <p:nvPicPr>
          <p:cNvPr id="1118" name="图片 4" descr=""/>
          <p:cNvPicPr/>
          <p:nvPr/>
        </p:nvPicPr>
        <p:blipFill>
          <a:blip r:embed="rId4"/>
          <a:stretch/>
        </p:blipFill>
        <p:spPr>
          <a:xfrm>
            <a:off x="2195640" y="2316240"/>
            <a:ext cx="647640" cy="428400"/>
          </a:xfrm>
          <a:prstGeom prst="rect">
            <a:avLst/>
          </a:prstGeom>
          <a:ln w="0">
            <a:noFill/>
          </a:ln>
        </p:spPr>
      </p:pic>
      <p:pic>
        <p:nvPicPr>
          <p:cNvPr id="1119" name="图片 5" descr=""/>
          <p:cNvPicPr/>
          <p:nvPr/>
        </p:nvPicPr>
        <p:blipFill>
          <a:blip r:embed="rId5"/>
          <a:stretch/>
        </p:blipFill>
        <p:spPr>
          <a:xfrm>
            <a:off x="4716360" y="3759120"/>
            <a:ext cx="3816360" cy="428760"/>
          </a:xfrm>
          <a:prstGeom prst="rect">
            <a:avLst/>
          </a:prstGeom>
          <a:ln w="0">
            <a:noFill/>
          </a:ln>
        </p:spPr>
      </p:pic>
      <p:pic>
        <p:nvPicPr>
          <p:cNvPr id="1120" name="图片 6" descr=""/>
          <p:cNvPicPr/>
          <p:nvPr/>
        </p:nvPicPr>
        <p:blipFill>
          <a:blip r:embed="rId6"/>
          <a:stretch/>
        </p:blipFill>
        <p:spPr>
          <a:xfrm>
            <a:off x="2195640" y="4295880"/>
            <a:ext cx="936360" cy="428400"/>
          </a:xfrm>
          <a:prstGeom prst="rect">
            <a:avLst/>
          </a:prstGeom>
          <a:ln w="0">
            <a:noFill/>
          </a:ln>
        </p:spPr>
      </p:pic>
      <p:pic>
        <p:nvPicPr>
          <p:cNvPr id="1121" name="图片 7" descr=""/>
          <p:cNvPicPr/>
          <p:nvPr/>
        </p:nvPicPr>
        <p:blipFill>
          <a:blip r:embed="rId7"/>
          <a:stretch/>
        </p:blipFill>
        <p:spPr>
          <a:xfrm>
            <a:off x="5292720" y="4838760"/>
            <a:ext cx="3311640" cy="42840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8" descr=""/>
          <p:cNvPicPr/>
          <p:nvPr/>
        </p:nvPicPr>
        <p:blipFill>
          <a:blip r:embed="rId8"/>
          <a:stretch/>
        </p:blipFill>
        <p:spPr>
          <a:xfrm>
            <a:off x="2124000" y="5402160"/>
            <a:ext cx="6480360" cy="42876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9" descr=""/>
          <p:cNvPicPr/>
          <p:nvPr/>
        </p:nvPicPr>
        <p:blipFill>
          <a:blip r:embed="rId9"/>
          <a:stretch/>
        </p:blipFill>
        <p:spPr>
          <a:xfrm>
            <a:off x="2124000" y="5952960"/>
            <a:ext cx="64803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2" descr=""/>
          <p:cNvPicPr/>
          <p:nvPr/>
        </p:nvPicPr>
        <p:blipFill>
          <a:blip r:embed="rId1"/>
          <a:stretch/>
        </p:blipFill>
        <p:spPr>
          <a:xfrm>
            <a:off x="262080" y="849240"/>
            <a:ext cx="8618400" cy="573264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2" descr=""/>
          <p:cNvPicPr/>
          <p:nvPr/>
        </p:nvPicPr>
        <p:blipFill>
          <a:blip r:embed="rId2"/>
          <a:stretch/>
        </p:blipFill>
        <p:spPr>
          <a:xfrm>
            <a:off x="3780000" y="1782720"/>
            <a:ext cx="1871640" cy="428760"/>
          </a:xfrm>
          <a:prstGeom prst="rect">
            <a:avLst/>
          </a:prstGeom>
          <a:ln w="0">
            <a:noFill/>
          </a:ln>
        </p:spPr>
      </p:pic>
      <p:pic>
        <p:nvPicPr>
          <p:cNvPr id="1126" name="图片 3" descr=""/>
          <p:cNvPicPr/>
          <p:nvPr/>
        </p:nvPicPr>
        <p:blipFill>
          <a:blip r:embed="rId3"/>
          <a:stretch/>
        </p:blipFill>
        <p:spPr>
          <a:xfrm>
            <a:off x="5148360" y="2349360"/>
            <a:ext cx="3456000" cy="428760"/>
          </a:xfrm>
          <a:prstGeom prst="rect">
            <a:avLst/>
          </a:prstGeom>
          <a:ln w="0">
            <a:noFill/>
          </a:ln>
        </p:spPr>
      </p:pic>
      <p:pic>
        <p:nvPicPr>
          <p:cNvPr id="1127" name="图片 4" descr=""/>
          <p:cNvPicPr/>
          <p:nvPr/>
        </p:nvPicPr>
        <p:blipFill>
          <a:blip r:embed="rId4"/>
          <a:stretch/>
        </p:blipFill>
        <p:spPr>
          <a:xfrm>
            <a:off x="2268360" y="2905200"/>
            <a:ext cx="6336000" cy="428400"/>
          </a:xfrm>
          <a:prstGeom prst="rect">
            <a:avLst/>
          </a:prstGeom>
          <a:ln w="0">
            <a:noFill/>
          </a:ln>
        </p:spPr>
      </p:pic>
      <p:pic>
        <p:nvPicPr>
          <p:cNvPr id="1128" name="图片 5" descr=""/>
          <p:cNvPicPr/>
          <p:nvPr/>
        </p:nvPicPr>
        <p:blipFill>
          <a:blip r:embed="rId5"/>
          <a:stretch/>
        </p:blipFill>
        <p:spPr>
          <a:xfrm>
            <a:off x="2195640" y="3452760"/>
            <a:ext cx="6337080" cy="428760"/>
          </a:xfrm>
          <a:prstGeom prst="rect">
            <a:avLst/>
          </a:prstGeom>
          <a:ln w="0">
            <a:noFill/>
          </a:ln>
        </p:spPr>
      </p:pic>
      <p:pic>
        <p:nvPicPr>
          <p:cNvPr id="1129" name="图片 6" descr=""/>
          <p:cNvPicPr/>
          <p:nvPr/>
        </p:nvPicPr>
        <p:blipFill>
          <a:blip r:embed="rId6"/>
          <a:stretch/>
        </p:blipFill>
        <p:spPr>
          <a:xfrm>
            <a:off x="4859280" y="4921200"/>
            <a:ext cx="11527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314280" y="1058760"/>
            <a:ext cx="8515440" cy="5313600"/>
          </a:xfrm>
          <a:prstGeom prst="rect">
            <a:avLst/>
          </a:prstGeom>
          <a:ln w="0">
            <a:noFill/>
          </a:ln>
        </p:spPr>
      </p:pic>
      <p:pic>
        <p:nvPicPr>
          <p:cNvPr id="1131" name="图片 2" descr=""/>
          <p:cNvPicPr/>
          <p:nvPr/>
        </p:nvPicPr>
        <p:blipFill>
          <a:blip r:embed="rId2"/>
          <a:stretch/>
        </p:blipFill>
        <p:spPr>
          <a:xfrm>
            <a:off x="7020000" y="1052640"/>
            <a:ext cx="1152360" cy="428400"/>
          </a:xfrm>
          <a:prstGeom prst="rect">
            <a:avLst/>
          </a:prstGeom>
          <a:ln w="0">
            <a:noFill/>
          </a:ln>
        </p:spPr>
      </p:pic>
      <p:pic>
        <p:nvPicPr>
          <p:cNvPr id="1132" name="图片 3" descr=""/>
          <p:cNvPicPr/>
          <p:nvPr/>
        </p:nvPicPr>
        <p:blipFill>
          <a:blip r:embed="rId3"/>
          <a:stretch/>
        </p:blipFill>
        <p:spPr>
          <a:xfrm>
            <a:off x="1001880" y="1576440"/>
            <a:ext cx="1152360" cy="428400"/>
          </a:xfrm>
          <a:prstGeom prst="rect">
            <a:avLst/>
          </a:prstGeom>
          <a:ln w="0">
            <a:noFill/>
          </a:ln>
        </p:spPr>
      </p:pic>
      <p:pic>
        <p:nvPicPr>
          <p:cNvPr id="1133" name="图片 4" descr=""/>
          <p:cNvPicPr/>
          <p:nvPr/>
        </p:nvPicPr>
        <p:blipFill>
          <a:blip r:embed="rId4"/>
          <a:stretch/>
        </p:blipFill>
        <p:spPr>
          <a:xfrm>
            <a:off x="4140360" y="1576440"/>
            <a:ext cx="1368360" cy="428400"/>
          </a:xfrm>
          <a:prstGeom prst="rect">
            <a:avLst/>
          </a:prstGeom>
          <a:ln w="0">
            <a:noFill/>
          </a:ln>
        </p:spPr>
      </p:pic>
      <p:pic>
        <p:nvPicPr>
          <p:cNvPr id="1134" name="图片 5" descr=""/>
          <p:cNvPicPr/>
          <p:nvPr/>
        </p:nvPicPr>
        <p:blipFill>
          <a:blip r:embed="rId5"/>
          <a:stretch/>
        </p:blipFill>
        <p:spPr>
          <a:xfrm>
            <a:off x="6300720" y="1576440"/>
            <a:ext cx="1150920" cy="428400"/>
          </a:xfrm>
          <a:prstGeom prst="rect">
            <a:avLst/>
          </a:prstGeom>
          <a:ln w="0">
            <a:noFill/>
          </a:ln>
        </p:spPr>
      </p:pic>
      <p:pic>
        <p:nvPicPr>
          <p:cNvPr id="1135" name="图片 6" descr=""/>
          <p:cNvPicPr/>
          <p:nvPr/>
        </p:nvPicPr>
        <p:blipFill>
          <a:blip r:embed="rId6"/>
          <a:stretch/>
        </p:blipFill>
        <p:spPr>
          <a:xfrm>
            <a:off x="6453360" y="3406680"/>
            <a:ext cx="2222280" cy="428760"/>
          </a:xfrm>
          <a:prstGeom prst="rect">
            <a:avLst/>
          </a:prstGeom>
          <a:ln w="0">
            <a:noFill/>
          </a:ln>
        </p:spPr>
      </p:pic>
      <p:pic>
        <p:nvPicPr>
          <p:cNvPr id="1136" name="图片 7" descr=""/>
          <p:cNvPicPr/>
          <p:nvPr/>
        </p:nvPicPr>
        <p:blipFill>
          <a:blip r:embed="rId7"/>
          <a:stretch/>
        </p:blipFill>
        <p:spPr>
          <a:xfrm>
            <a:off x="1042920" y="3962520"/>
            <a:ext cx="1513080" cy="428400"/>
          </a:xfrm>
          <a:prstGeom prst="rect">
            <a:avLst/>
          </a:prstGeom>
          <a:ln w="0">
            <a:noFill/>
          </a:ln>
        </p:spPr>
      </p:pic>
      <p:pic>
        <p:nvPicPr>
          <p:cNvPr id="1137" name="图片 8" descr=""/>
          <p:cNvPicPr/>
          <p:nvPr/>
        </p:nvPicPr>
        <p:blipFill>
          <a:blip r:embed="rId8"/>
          <a:stretch/>
        </p:blipFill>
        <p:spPr>
          <a:xfrm>
            <a:off x="2916360" y="4508640"/>
            <a:ext cx="5759280" cy="428400"/>
          </a:xfrm>
          <a:prstGeom prst="rect">
            <a:avLst/>
          </a:prstGeom>
          <a:ln w="0">
            <a:noFill/>
          </a:ln>
        </p:spPr>
      </p:pic>
      <p:pic>
        <p:nvPicPr>
          <p:cNvPr id="1138" name="图片 9" descr=""/>
          <p:cNvPicPr/>
          <p:nvPr/>
        </p:nvPicPr>
        <p:blipFill>
          <a:blip r:embed="rId9"/>
          <a:stretch/>
        </p:blipFill>
        <p:spPr>
          <a:xfrm>
            <a:off x="981000" y="5065560"/>
            <a:ext cx="7705800" cy="428760"/>
          </a:xfrm>
          <a:prstGeom prst="rect">
            <a:avLst/>
          </a:prstGeom>
          <a:ln w="0">
            <a:noFill/>
          </a:ln>
        </p:spPr>
      </p:pic>
      <p:pic>
        <p:nvPicPr>
          <p:cNvPr id="1139" name="图片 10" descr=""/>
          <p:cNvPicPr/>
          <p:nvPr/>
        </p:nvPicPr>
        <p:blipFill>
          <a:blip r:embed="rId10"/>
          <a:stretch/>
        </p:blipFill>
        <p:spPr>
          <a:xfrm>
            <a:off x="1023840" y="5602320"/>
            <a:ext cx="77043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图片 3" descr=""/>
          <p:cNvPicPr/>
          <p:nvPr/>
        </p:nvPicPr>
        <p:blipFill>
          <a:blip r:embed="rId1"/>
          <a:stretch/>
        </p:blipFill>
        <p:spPr>
          <a:xfrm>
            <a:off x="423720" y="1600200"/>
            <a:ext cx="8294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2" descr=""/>
          <p:cNvPicPr/>
          <p:nvPr/>
        </p:nvPicPr>
        <p:blipFill>
          <a:blip r:embed="rId1"/>
          <a:stretch/>
        </p:blipFill>
        <p:spPr>
          <a:xfrm>
            <a:off x="549360" y="1008000"/>
            <a:ext cx="8047080" cy="5427720"/>
          </a:xfrm>
          <a:prstGeom prst="rect">
            <a:avLst/>
          </a:prstGeom>
          <a:ln w="0">
            <a:noFill/>
          </a:ln>
        </p:spPr>
      </p:pic>
      <p:pic>
        <p:nvPicPr>
          <p:cNvPr id="1142" name="图片 2" descr=""/>
          <p:cNvPicPr/>
          <p:nvPr/>
        </p:nvPicPr>
        <p:blipFill>
          <a:blip r:embed="rId2"/>
          <a:stretch/>
        </p:blipFill>
        <p:spPr>
          <a:xfrm>
            <a:off x="3564000" y="2852640"/>
            <a:ext cx="350640" cy="428760"/>
          </a:xfrm>
          <a:prstGeom prst="rect">
            <a:avLst/>
          </a:prstGeom>
          <a:ln w="0">
            <a:noFill/>
          </a:ln>
        </p:spPr>
      </p:pic>
      <p:pic>
        <p:nvPicPr>
          <p:cNvPr id="1143" name="图片 3" descr=""/>
          <p:cNvPicPr/>
          <p:nvPr/>
        </p:nvPicPr>
        <p:blipFill>
          <a:blip r:embed="rId3"/>
          <a:stretch/>
        </p:blipFill>
        <p:spPr>
          <a:xfrm>
            <a:off x="3224160" y="3344760"/>
            <a:ext cx="349200" cy="428760"/>
          </a:xfrm>
          <a:prstGeom prst="rect">
            <a:avLst/>
          </a:prstGeom>
          <a:ln w="0">
            <a:noFill/>
          </a:ln>
        </p:spPr>
      </p:pic>
      <p:pic>
        <p:nvPicPr>
          <p:cNvPr id="1144" name="图片 4" descr=""/>
          <p:cNvPicPr/>
          <p:nvPr/>
        </p:nvPicPr>
        <p:blipFill>
          <a:blip r:embed="rId4"/>
          <a:stretch/>
        </p:blipFill>
        <p:spPr>
          <a:xfrm>
            <a:off x="6732720" y="2852640"/>
            <a:ext cx="1224000" cy="428760"/>
          </a:xfrm>
          <a:prstGeom prst="rect">
            <a:avLst/>
          </a:prstGeom>
          <a:ln w="0">
            <a:noFill/>
          </a:ln>
        </p:spPr>
      </p:pic>
      <p:pic>
        <p:nvPicPr>
          <p:cNvPr id="1145" name="图片 5" descr=""/>
          <p:cNvPicPr/>
          <p:nvPr/>
        </p:nvPicPr>
        <p:blipFill>
          <a:blip r:embed="rId5"/>
          <a:stretch/>
        </p:blipFill>
        <p:spPr>
          <a:xfrm>
            <a:off x="4211640" y="3340080"/>
            <a:ext cx="3745080" cy="428760"/>
          </a:xfrm>
          <a:prstGeom prst="rect">
            <a:avLst/>
          </a:prstGeom>
          <a:ln w="0">
            <a:noFill/>
          </a:ln>
        </p:spPr>
      </p:pic>
      <p:pic>
        <p:nvPicPr>
          <p:cNvPr id="1146" name="图片 6" descr=""/>
          <p:cNvPicPr/>
          <p:nvPr/>
        </p:nvPicPr>
        <p:blipFill>
          <a:blip r:embed="rId6"/>
          <a:stretch/>
        </p:blipFill>
        <p:spPr>
          <a:xfrm>
            <a:off x="4149720" y="3830760"/>
            <a:ext cx="12240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图片 1" descr=""/>
          <p:cNvPicPr/>
          <p:nvPr/>
        </p:nvPicPr>
        <p:blipFill>
          <a:blip r:embed="rId1"/>
          <a:stretch/>
        </p:blipFill>
        <p:spPr>
          <a:xfrm>
            <a:off x="852480" y="782640"/>
            <a:ext cx="7439040" cy="5923080"/>
          </a:xfrm>
          <a:prstGeom prst="rect">
            <a:avLst/>
          </a:prstGeom>
          <a:ln w="0">
            <a:noFill/>
          </a:ln>
        </p:spPr>
      </p:pic>
      <p:pic>
        <p:nvPicPr>
          <p:cNvPr id="1148" name="图片 2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3024360" cy="42876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3" descr=""/>
          <p:cNvPicPr/>
          <p:nvPr/>
        </p:nvPicPr>
        <p:blipFill>
          <a:blip r:embed="rId3"/>
          <a:stretch/>
        </p:blipFill>
        <p:spPr>
          <a:xfrm>
            <a:off x="5364000" y="4005360"/>
            <a:ext cx="1224000" cy="42840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4" descr=""/>
          <p:cNvPicPr/>
          <p:nvPr/>
        </p:nvPicPr>
        <p:blipFill>
          <a:blip r:embed="rId4"/>
          <a:stretch/>
        </p:blipFill>
        <p:spPr>
          <a:xfrm>
            <a:off x="4716360" y="4508640"/>
            <a:ext cx="503280" cy="428400"/>
          </a:xfrm>
          <a:prstGeom prst="rect">
            <a:avLst/>
          </a:prstGeom>
          <a:ln w="0">
            <a:noFill/>
          </a:ln>
        </p:spPr>
      </p:pic>
      <p:pic>
        <p:nvPicPr>
          <p:cNvPr id="1151" name="图片 5" descr=""/>
          <p:cNvPicPr/>
          <p:nvPr/>
        </p:nvPicPr>
        <p:blipFill>
          <a:blip r:embed="rId5"/>
          <a:stretch/>
        </p:blipFill>
        <p:spPr>
          <a:xfrm>
            <a:off x="6804000" y="5003640"/>
            <a:ext cx="432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图片 1" descr=""/>
          <p:cNvPicPr/>
          <p:nvPr/>
        </p:nvPicPr>
        <p:blipFill>
          <a:blip r:embed="rId1"/>
          <a:stretch/>
        </p:blipFill>
        <p:spPr>
          <a:xfrm>
            <a:off x="542880" y="708120"/>
            <a:ext cx="8058240" cy="6114960"/>
          </a:xfrm>
          <a:prstGeom prst="rect">
            <a:avLst/>
          </a:prstGeom>
          <a:ln w="0">
            <a:noFill/>
          </a:ln>
        </p:spPr>
      </p:pic>
      <p:pic>
        <p:nvPicPr>
          <p:cNvPr id="1153" name="图片 2" descr=""/>
          <p:cNvPicPr/>
          <p:nvPr/>
        </p:nvPicPr>
        <p:blipFill>
          <a:blip r:embed="rId2"/>
          <a:stretch/>
        </p:blipFill>
        <p:spPr>
          <a:xfrm>
            <a:off x="5364000" y="5845320"/>
            <a:ext cx="3311640" cy="42840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3" descr=""/>
          <p:cNvPicPr/>
          <p:nvPr/>
        </p:nvPicPr>
        <p:blipFill>
          <a:blip r:embed="rId3"/>
          <a:stretch/>
        </p:blipFill>
        <p:spPr>
          <a:xfrm>
            <a:off x="1403280" y="6329520"/>
            <a:ext cx="40323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8:29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